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A02A-3ADE-47DA-9E48-58A6BD579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D9F0-1ACD-4DCF-A81C-99D5DA525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257A-7386-4BF6-80FA-5E7AB912C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3F32-F789-48A2-96AF-CE7C331F3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072CA-DF83-41FE-B8E3-DFE7665CC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85B5C-C6B2-4C4D-8A83-686F10D8F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C4B81-E2EE-465D-BC1A-57DBCCF61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A3A87-64C0-4C2B-88B2-DADDFCCDE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15EE6-8024-4EF8-B898-3B5920455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2672F-93D2-4A45-A97F-5A6CA7CE5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540FD-B540-49DF-8FF7-31A545C5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0C32-14FD-4133-BE65-AAD33156D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2A670-94A0-49C0-88C3-0D7AC6A5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6CE75-69A0-4962-94C3-9614AF8A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DC1D6-489C-47AB-A468-803B05725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23247-7E91-4E8E-A07D-4DDFC51FE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D1A0D-68ED-4085-995F-6DBCFD1BD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3CA0-A534-40A8-ACB9-AA7370FA8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FD3E-1E43-4880-8E16-11B0A42E9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BEF8-2B5C-4F0E-ADD7-0308B941C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65B5-9658-481C-A820-2E06EAF40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E2FC-5B70-4546-87F7-909FACADA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526E-40C5-4241-A56C-F59690D3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3659-9B2D-4225-A401-178BF933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E36F2-C839-4226-A7C4-4BE1821B87F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F41AD-6071-4F6B-AF32-2E284409C56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2057400"/>
            <a:ext cx="6400800" cy="30988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80"/>
                </a:solidFill>
                <a:latin typeface="Comic Sans MS"/>
              </a:rPr>
              <a:t>ПОРТРЕТ</a:t>
            </a:r>
            <a:br>
              <a:rPr sz="4400"/>
            </a:br>
            <a:r>
              <a:rPr b="0" lang="ru-RU" sz="4400" spc="-1" strike="noStrike">
                <a:solidFill>
                  <a:srgbClr val="800080"/>
                </a:solidFill>
                <a:latin typeface="Comic Sans MS"/>
              </a:rPr>
              <a:t>дошкольника, поступающего в школу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6019560"/>
            <a:ext cx="8153280" cy="54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Comic Sans MS"/>
              </a:rPr>
              <a:t>Педагог-психолог Надежда Дмитриевна Мацедон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Физическое развит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владение основными культурно-гигиеническими навыкам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сформированность основных физических качеств и потребности в двигательной активност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- самостоятельное выполнение доступных возрасту гигиенических процедур, соблюдение элементарных правил здорового образа жизни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Comic Sans MS"/>
              </a:rPr>
              <a:t>Любознательность, активнос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800080"/>
                </a:solidFill>
                <a:latin typeface="Comic Sans MS"/>
              </a:rPr>
              <a:t>интерес к новому, неизвестному в окружающем мире (миру предметов и вещей, миру отношений и своему внутреннему миру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800080"/>
                </a:solidFill>
                <a:latin typeface="Comic Sans MS"/>
              </a:rPr>
              <a:t>проявляется в вопросах к взрослому, экспериментированию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800080"/>
                </a:solidFill>
                <a:latin typeface="Comic Sans MS"/>
              </a:rPr>
              <a:t>способность самостоятельно действовать (в повседневной жизни, в различных видах детской деятельности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800080"/>
                </a:solidFill>
                <a:latin typeface="Comic Sans MS"/>
              </a:rPr>
              <a:t>в случаях затруднений обращается за помощью к взрослому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800080"/>
                </a:solidFill>
                <a:latin typeface="Comic Sans MS"/>
              </a:rPr>
              <a:t>принимает живое, заинтересованное участие в образовательном процессе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68706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Comic Sans MS"/>
              </a:rPr>
              <a:t>Эмоциональная отзывчивос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cc0066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66"/>
                </a:solidFill>
                <a:latin typeface="Comic Sans MS"/>
              </a:rPr>
              <a:t>откликается на эмоции близких людей и друзе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cc0066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66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cc0066"/>
                </a:solidFill>
                <a:latin typeface="Comic Sans MS"/>
              </a:rPr>
              <a:t>сопереживает персонажам сказок, историй, рассказ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cc0066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66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cc0066"/>
                </a:solidFill>
                <a:latin typeface="Comic Sans MS"/>
              </a:rPr>
              <a:t>эмоционально реагирует на произведения изобразительного искусства, музыкальные и художественные произведения, мир природы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omic Sans MS"/>
              </a:rPr>
              <a:t>Коммуникативная компетентност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84582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33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Comic Sans MS"/>
              </a:rPr>
              <a:t>овладевший средствами общения и способами взаимодействия со взрослыми и сверстникам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33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Comic Sans MS"/>
              </a:rPr>
              <a:t>адекватно использует вербальные и невербальные средства общения, владеет диалогической речью и конструктивными способами взаимодействия (договаривается, обменивается предметами, распределяет действия при сотрудничестве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33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Comic Sans MS"/>
              </a:rPr>
              <a:t>способен изменять стиль общения со взрослым или сверстником, в зависимости от ситуаци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omic Sans MS"/>
              </a:rPr>
              <a:t>Поведенческие проявлен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838080"/>
            <a:ext cx="76964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пособность управлять своим поведением и планировать свои действия на основе первичных ценностных представлени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облюдение элементарных общепринятых норм и правил поведен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ведение преимущественно определяется не сиюминутными желаниями, а требованиями со стороны взрослых и первичными ценностными представлениями о том, «что такое хорошо и что такое плохо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пособность планировать свои действия, направленные на достижение конкретной цел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облюдение правил поведения на улице (дорожные правила), в общественных местах (транспорте, магазине, театре и др.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Интеллектуальное развити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76964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пособность решать интеллектуальные и личностные задачи (проблемы), адекватные возрасту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именение самостоятельно усвоенных знаний и способов деятельности для решения новых задач (проблем), поставленных как взрослым, так и им самим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зависимости от ситуации может преобразовывать способы решения задач (проблем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ебенок способен предложить собственный замысел и воплотить его в рисунке, постройке, рассказе и др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Знания об окружающем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660066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Comic Sans MS"/>
              </a:rPr>
              <a:t>первичные представления о себе, семье, обществе, государстве, мире и природ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660066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Comic Sans MS"/>
              </a:rPr>
              <a:t>о составе семьи, родственных отношениях и взаимосвязях, распределении семейных обязанностей, семейных традициях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660066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660066"/>
                </a:solidFill>
                <a:latin typeface="Comic Sans MS"/>
              </a:rPr>
              <a:t>об обществе, его культурных ценностях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660066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660066"/>
                </a:solidFill>
                <a:latin typeface="Comic Sans MS"/>
              </a:rPr>
              <a:t>о государстве и принадлежности к нему; о мире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16292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Comic Sans MS"/>
              </a:rPr>
              <a:t>Универсальные предпосылки учебной деятельност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cc"/>
                </a:solidFill>
                <a:latin typeface="Comic Sans MS"/>
              </a:rPr>
              <a:t>- умение работать по правилу и по образцу, слушать взрослого и выполнять его инструкци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cc"/>
                </a:solidFill>
                <a:latin typeface="Comic Sans MS"/>
              </a:rPr>
              <a:t>- владение необходимыми умениями и навыками продуктивной деятельности: рисунок красками, аппликация, поделки из различных материалов и т.д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ОУ 12</cp:lastModifiedBy>
  <dcterms:modified xsi:type="dcterms:W3CDTF">2006-12-31T23:56:18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