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gif" ContentType="image/gif"/>
  <Override PartName="/ppt/media/image13.gif" ContentType="image/gif"/>
  <Override PartName="/ppt/media/image8.gif" ContentType="image/gif"/>
  <Override PartName="/ppt/media/image18.png" ContentType="image/png"/>
  <Override PartName="/ppt/media/image14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0.png" ContentType="image/png"/>
  <Override PartName="/ppt/media/image6.jpeg" ContentType="image/jpeg"/>
  <Override PartName="/ppt/media/image5.gif" ContentType="image/gif"/>
  <Override PartName="/ppt/media/image9.png" ContentType="image/png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9EF-D19F-4946-8A28-3127A66D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F76-0E1D-48C1-AB51-FDAD2E9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9F8-B66D-4C2A-BB4B-14822810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FC1-D819-4BF3-B327-1A1DF3AE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548-AB4C-4FBB-961F-6DF6B11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E24-E5C2-411C-982A-59AF8DFC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E6B-DA82-4107-B20A-7F1E49EA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BAA-D2BD-40B1-9E48-F62A3FA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138-83C4-4E0C-A85A-62C67690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99D-03E8-4B9E-8E4E-9D2AB99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181-709F-4934-9B39-246730A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D71-8C8C-4D09-B5ED-B17FC208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4F40-92D1-4897-9716-41E537DBC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Умей сказать «Нет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499760"/>
            <a:ext cx="7643880" cy="46436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«Нет»-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это меч твой надёжный и щи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От бедствий, страданий тебя защит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ремись стать свободны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Уверенным  буд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И жизнь осветит тебе правильный пу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68057_1280_1024.jpg"/>
          <p:cNvPicPr/>
          <p:nvPr/>
        </p:nvPicPr>
        <p:blipFill>
          <a:blip r:embed="rId1"/>
          <a:stretch/>
        </p:blipFill>
        <p:spPr>
          <a:xfrm>
            <a:off x="4286160" y="4429080"/>
            <a:ext cx="387504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9...jpg"/>
          <p:cNvPicPr/>
          <p:nvPr/>
        </p:nvPicPr>
        <p:blipFill>
          <a:blip r:embed="rId2"/>
          <a:stretch/>
        </p:blipFill>
        <p:spPr>
          <a:xfrm>
            <a:off x="1000080" y="4429080"/>
            <a:ext cx="335772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фанфары на начало.mp3" descr=""/>
          <p:cNvPicPr/>
          <p:nvPr/>
        </p:nvPicPr>
        <p:blipFill>
          <a:blip r:embed="rId3"/>
          <a:stretch/>
        </p:blipFill>
        <p:spPr>
          <a:xfrm>
            <a:off x="1143000" y="35712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Track 12.mp3" descr=""/>
          <p:cNvPicPr/>
          <p:nvPr/>
        </p:nvPicPr>
        <p:blipFill>
          <a:blip r:embed="rId4"/>
          <a:stretch/>
        </p:blipFill>
        <p:spPr>
          <a:xfrm>
            <a:off x="1143000" y="428760"/>
            <a:ext cx="5000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2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72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чись управлять собой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3a2c7"/>
          </a:solidFill>
          <a:ln w="9360">
            <a:solidFill>
              <a:srgbClr val="604a7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4. Отказ- отрица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 даёт понять, что не согласится ни при каких обстоятельствах на предложение. «Нет, я не поеду на лодке, потому что боюсь воды!», «Нет, я ни за что не пойду в лес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4.gif"/>
          <p:cNvPicPr/>
          <p:nvPr/>
        </p:nvPicPr>
        <p:blipFill>
          <a:blip r:embed="rId1"/>
          <a:stretch/>
        </p:blipFill>
        <p:spPr>
          <a:xfrm>
            <a:off x="500040" y="357120"/>
            <a:ext cx="10717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Работай над собой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3a2c7"/>
          </a:solidFill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5. Отказ-конфлик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йний вариант отказа – отрицание.   Агрессивен по форме. Может содержать оскорбления или угрозы. «Давай сходим на дискотеку»,- «Ещё чего! Сам топай!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от вид отказа эффективен в случае выраженного внешнего д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для кроссордов.gif"/>
          <p:cNvPicPr/>
          <p:nvPr/>
        </p:nvPicPr>
        <p:blipFill>
          <a:blip r:embed="rId1"/>
          <a:stretch/>
        </p:blipFill>
        <p:spPr>
          <a:xfrm>
            <a:off x="500040" y="285840"/>
            <a:ext cx="11858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ять способов отка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solidFill>
            <a:srgbClr val="c3d69b"/>
          </a:solidFill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Отказ-соглашение: «…спасибо, но мне так неудобно вас затруднят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тказ-обещание: «Пойдём завтра в кино», - «С удовольствием, но завтра у меня занятия по математик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Отказ-альтернатива: «Пойдём завтра в спортзал», - «Давай лучше погуляем по посёл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Отказ-отрицание: «Нет, я не поеду на лодке, потому что боюсь во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Отказ-конфликт: «Ещё чего! Сам топай!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Детские_Крылатые качели.mp3" descr=""/>
          <p:cNvPicPr/>
          <p:nvPr/>
        </p:nvPicPr>
        <p:blipFill>
          <a:blip r:embed="rId1"/>
          <a:stretch/>
        </p:blipFill>
        <p:spPr>
          <a:xfrm>
            <a:off x="7643880" y="85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Детские_Крылатые качели.mp3" descr=""/>
          <p:cNvPicPr/>
          <p:nvPr/>
        </p:nvPicPr>
        <p:blipFill>
          <a:blip r:embed="rId2"/>
          <a:stretch/>
        </p:blipFill>
        <p:spPr>
          <a:xfrm>
            <a:off x="857160" y="714240"/>
            <a:ext cx="428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207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20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3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Быть уверенным- это здорово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«Портрет» уверенного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гляд  - прямой, заинтересова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а  - естественная, соответству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ющая   обстанов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есты- спокойные, пла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лос - спокойный, интонации доброжела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чь- высказывает аргументы, приводит фа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лыбающееся лицо 3"/>
          <p:cNvSpPr/>
          <p:nvPr/>
        </p:nvSpPr>
        <p:spPr>
          <a:xfrm>
            <a:off x="6143760" y="3214800"/>
            <a:ext cx="2428920" cy="22860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ДЕТСКИЕ_Подари улыбку миру (плюс).mp3" descr=""/>
          <p:cNvPicPr/>
          <p:nvPr/>
        </p:nvPicPr>
        <p:blipFill>
          <a:blip r:embed="rId2"/>
          <a:stretch/>
        </p:blipFill>
        <p:spPr>
          <a:xfrm>
            <a:off x="1714680" y="357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ДЕТСКИЕ_Подари улыбку миру (плюс).mp3" descr=""/>
          <p:cNvPicPr/>
          <p:nvPr/>
        </p:nvPicPr>
        <p:blipFill>
          <a:blip r:embed="rId3"/>
          <a:stretch/>
        </p:blipFill>
        <p:spPr>
          <a:xfrm>
            <a:off x="171468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4078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078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Желаем успехов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ебята! Помните: уверенность подобна деревьям:  «вырастает» не сразу, а формируется постепенно, набирая силу и объё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ДЕТСКИЕ_Заря.mp3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ДЕТСКИЕ_Заря.mp3" descr=""/>
          <p:cNvPicPr/>
          <p:nvPr/>
        </p:nvPicPr>
        <p:blipFill>
          <a:blip r:embed="rId2"/>
          <a:stretch/>
        </p:blipFill>
        <p:spPr>
          <a:xfrm>
            <a:off x="142884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2003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2003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Цели занят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рмирование умения противостоять чужому давлению, выражать отказ оптимальными  способ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тработка навыков уверенного поведения, отстаивания своей поз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Задачи занят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звивать способность делать самостоятельно свой выбор и умение поступать в соответствии с собственным реш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ормировать представление о силе группового давления на лич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сширять поведенческий репертуар в процессе конфронтации с групп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Рисунок22.gif"/>
          <p:cNvPicPr/>
          <p:nvPr/>
        </p:nvPicPr>
        <p:blipFill>
          <a:blip r:embed="rId1"/>
          <a:stretch/>
        </p:blipFill>
        <p:spPr>
          <a:xfrm>
            <a:off x="357120" y="1071720"/>
            <a:ext cx="300060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рупповое д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Групповое давление </a:t>
            </a: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знательное согла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 большинством из-за страх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ыть  отвергнуты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уверенности в своей правот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умения говорить «не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1str1.gif"/>
          <p:cNvPicPr/>
          <p:nvPr/>
        </p:nvPicPr>
        <p:blipFill>
          <a:blip r:embed="rId2"/>
          <a:stretch/>
        </p:blipFill>
        <p:spPr>
          <a:xfrm rot="10800000">
            <a:off x="571680" y="314316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р19.jpg"/>
          <p:cNvPicPr/>
          <p:nvPr/>
        </p:nvPicPr>
        <p:blipFill>
          <a:blip r:embed="rId3"/>
          <a:stretch/>
        </p:blipFill>
        <p:spPr>
          <a:xfrm>
            <a:off x="285840" y="4595760"/>
            <a:ext cx="30718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ведение людей в ситуациях группового д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13" descr=""/>
          <p:cNvPicPr/>
          <p:nvPr/>
        </p:nvPicPr>
        <p:blipFill>
          <a:blip r:embed="rId1"/>
          <a:stretch/>
        </p:blipFill>
        <p:spPr>
          <a:xfrm>
            <a:off x="182520" y="1603440"/>
            <a:ext cx="8448840" cy="4608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43.gif"/>
          <p:cNvPicPr/>
          <p:nvPr/>
        </p:nvPicPr>
        <p:blipFill>
          <a:blip r:embed="rId2"/>
          <a:stretch/>
        </p:blipFill>
        <p:spPr>
          <a:xfrm>
            <a:off x="3429000" y="1643040"/>
            <a:ext cx="1266840" cy="1504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Более подробно.gif"/>
          <p:cNvPicPr/>
          <p:nvPr/>
        </p:nvPicPr>
        <p:blipFill>
          <a:blip r:embed="rId3"/>
          <a:stretch/>
        </p:blipFill>
        <p:spPr>
          <a:xfrm>
            <a:off x="500040" y="1643040"/>
            <a:ext cx="32004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Виды группового давления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6" descr=""/>
          <p:cNvPicPr/>
          <p:nvPr/>
        </p:nvPicPr>
        <p:blipFill>
          <a:blip r:embed="rId1"/>
          <a:stretch/>
        </p:blipFill>
        <p:spPr>
          <a:xfrm>
            <a:off x="444600" y="1584360"/>
            <a:ext cx="82548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пособы отказ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3a2c7"/>
          </a:solidFill>
          <a:ln w="9360">
            <a:solidFill>
              <a:srgbClr val="953735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Отказ-соглашение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человек в принципе согласен с предложением, но по каким-то причинам не решается дать соглас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Учись побеждать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2. Отказ-обещание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еловек в принципе согласен с предложением, но в данный момент он не может его принять. Даётся понять, что при других обстоятельствах предложение было бы принято. «Пойдём завтра в кино», - «С удовольствием, но завтра у меня занятия по математик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Рисунок25.gif"/>
          <p:cNvPicPr/>
          <p:nvPr/>
        </p:nvPicPr>
        <p:blipFill>
          <a:blip r:embed="rId1"/>
          <a:stretch/>
        </p:blipFill>
        <p:spPr>
          <a:xfrm>
            <a:off x="571680" y="285840"/>
            <a:ext cx="135720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Рисунок29.gif"/>
          <p:cNvPicPr/>
          <p:nvPr/>
        </p:nvPicPr>
        <p:blipFill>
          <a:blip r:embed="rId2"/>
          <a:stretch/>
        </p:blipFill>
        <p:spPr>
          <a:xfrm>
            <a:off x="3357720" y="14292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Рисунок30.gif"/>
          <p:cNvPicPr/>
          <p:nvPr/>
        </p:nvPicPr>
        <p:blipFill>
          <a:blip r:embed="rId3"/>
          <a:stretch/>
        </p:blipFill>
        <p:spPr>
          <a:xfrm>
            <a:off x="6572160" y="357120"/>
            <a:ext cx="785880" cy="12765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Рисунок31.gif"/>
          <p:cNvPicPr/>
          <p:nvPr/>
        </p:nvPicPr>
        <p:blipFill>
          <a:blip r:embed="rId4"/>
          <a:stretch/>
        </p:blipFill>
        <p:spPr>
          <a:xfrm>
            <a:off x="7500960" y="285840"/>
            <a:ext cx="857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умай о последствиях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3a2c7"/>
          </a:solidFill>
          <a:ln w="9360">
            <a:solidFill>
              <a:srgbClr val="604a7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3. Отказ-альтернатив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аз направлен на альтернативное   предложение. Трудность такого отказа в том, чтобы придумать ценное альтернативное предложение: «Пойдём завтра в кино»- «С удовольствием, но завтра у меня занятие по математик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2.png"/>
          <p:cNvPicPr/>
          <p:nvPr/>
        </p:nvPicPr>
        <p:blipFill>
          <a:blip r:embed="rId1"/>
          <a:stretch/>
        </p:blipFill>
        <p:spPr>
          <a:xfrm>
            <a:off x="428760" y="357120"/>
            <a:ext cx="1143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s</dc:creator>
  <dc:description/>
  <dc:language>en-US</dc:language>
  <cp:lastModifiedBy>Надежда</cp:lastModifiedBy>
  <dcterms:modified xsi:type="dcterms:W3CDTF">2024-12-05T13:38:38Z</dcterms:modified>
  <cp:revision>39</cp:revision>
  <dc:subject/>
  <dc:title>Умей сказать «Нет!»</dc:title>
</cp:coreProperties>
</file>